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3.png" ContentType="image/png"/>
  <Override PartName="/ppt/media/image22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32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7AA7-4674-4554-B16E-9C686FC050FA}" type="slidenum">
              <a:rPr b="0" lang="es-C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4797-B225-4225-8014-C9840244A81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29EB-BA88-4842-AA47-33498C464BF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EAD3-C73A-4040-AF9F-92630838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285F-F38C-4CDC-B7D0-795F3F57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5E61B-2368-45D2-A022-858D0465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F9B20-4CFD-4BD4-A92D-CA8E9091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FFD24-0887-4217-88BB-C53AABE3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10D0B-4952-4B72-B4B6-9610935F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629D0-4831-4A28-8810-707EB813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05BA5-6EAC-49FF-B728-6CBAE4E5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93285-66FB-4A36-9B3C-93E123F7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988E1-8433-430D-88AD-AB5D577C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C3619-3AC2-4726-80FF-49BB27AA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F43-731A-42F9-A089-0916074D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7C17-DB78-4E65-BF89-F843D6D3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B033-5A4C-4A85-B059-2E10C4CA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AB0B-BA7B-46B7-91A8-DA25C8A2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1CEE-AA86-465C-887A-FA2A9DA1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6D15-FAB0-49A9-B019-3498A77E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7C97-60B0-4C3B-9598-6688E956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F16E-08C1-49A0-914F-9968736C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E583-DCCF-43B8-8659-E4944B4E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6BD-BAEC-42CF-9FAC-5B6F720F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6CC6-286C-4F91-A205-06ADE34D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57CE-13AE-402A-9505-C86C41B3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5F46-CE82-4FC3-BD73-4ED0D1DC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FA3C-9D27-4834-8844-63940ABC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5910-00E2-4FED-8934-F7C17B44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10FC1-F3D5-4E27-BC22-5907664A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96CF8-895D-454B-B8F7-1B832D83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FE5F7-FEEF-4091-8C7E-A15307F9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EC44D-753E-40FF-9102-AF6BE160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A5134-EFE4-4A14-8F06-C4758257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2E5-6C72-4D98-B7F3-865B60FF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CB99B-159E-43CA-B778-D818F105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E9994-C6BE-4D3B-B5B4-CE7A283C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252F6-E51B-4813-96F7-4C0A45EE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875DD-E5ED-4899-AB8B-9A981911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BFDA9-F9E1-47D2-86E3-4F659470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AC225-1FF9-4B22-ADE5-3309CA5E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BEC6F-F982-4AC7-BA0B-A4224219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F830E-93D9-4CE2-A5BE-AAB30CB9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8711A-3809-423E-8CA6-C5F73F8B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B16D4-35CC-4CDD-B322-E5F334F9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933-FC72-4456-9D45-BDEFD085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0D6EF-5CCD-434C-B3F1-F4423810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662E0-410D-43C5-9B89-7F5D0E29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F324D-5137-4BB6-BC2F-2DDC5AA6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DA4B4-8539-470E-91AC-D78C94D1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440F8-A1D1-4C3D-B1BA-44EC6B2D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32310-8365-46AE-8A84-7E325195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16B0B-0BAE-4F2C-885B-512C03BD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A892F-C7E1-4DD8-93A3-CC3FDADB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5527C-8544-4853-9F1C-21C7E604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8D683-5E66-4501-B4B4-AA1C972E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F60-E090-477F-A697-EE9D44B2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F557E-090A-4773-B42F-F0EEC421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36218-0BBD-481F-A9F8-8C9A2CAE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99C11-DED6-4173-B0C1-10CA0B48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6F8C0-B361-45BE-97E8-7FC2FC8D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C70FE-8CD1-4C1E-A132-3D08CA8A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F1966-2D6B-4F5B-BD7B-E88AFC30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64A5D-D319-4C42-A748-406A341C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ACAD5-AB8C-41E6-9C5C-3FB933A7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A8502-FC5A-45B1-991D-2C8F0BF3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F754E-3082-4DA7-96F7-0AB66DA9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124-BF07-4DC7-ABAC-ACA42678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7F16E-48F8-446B-A639-DD1584BC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31B2B-FEFF-41E0-B4E3-531C4038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66050-BBA2-4D51-8D22-A6B14029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EBDD6-7AD2-4134-8380-772019CD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8FA50-B53B-4BCC-8EE4-E3283A40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D2AC2-0A10-44B1-A705-BC5C2F7C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EA1A7-A8A8-4663-8AC0-FAC6BAE6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48EE4-90F3-4E9B-9802-7688221B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35050-2C9D-44BE-96D2-723F17C2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AD0CD-9A55-4142-92F5-DC3F859C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C3F-DFEF-4C8C-A6B0-4E95C001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DF2AF-DD91-4E2C-BC16-51808944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79A23-4075-4928-9BF1-48406021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0B353-01FD-4C0D-81E1-9F2E230B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51BC7-5773-4E6C-86A4-2BE5B678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58C4E-1371-4EB4-BE64-E69E7A94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42BAA-B95D-4382-B961-4240ECBC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C9BC7-F780-4727-B982-F2BE1C43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6A062-7AE0-45FE-AB18-BBB4FA64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BC694-A9D8-44CB-AE16-BBFA7BFC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DF076-74C3-4FC3-A010-09200360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868-4D2A-45E0-AA1C-5E9A3A73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8AAD8-DB73-4DB8-8CD9-07BB80B6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2B390-947B-4080-9536-4078E54A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799E6-7735-4415-8100-8728D115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46394-34B7-4093-982F-6427D02A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B384E-4C7C-433E-AA63-E95FC1B6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FA8E3-B84A-4485-A0F6-31ED06F7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57BDA-689F-45E7-AD8A-3AF24F28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AFDA9-72FC-4BAC-A56D-58D3673D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CCA45-597D-46AB-94F9-3A2A766E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E73C2-24AF-46A8-B291-6C0324CD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5EC-29F5-4253-803F-0FA018DF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EB4B8-B565-41A9-878E-0ACD36DD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E1271-4EDE-4E14-BF1F-61AE52AD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FB4EF-5789-485F-91F0-3D80580B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03E34-4877-4442-806F-764587DD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B6516-A514-4DF6-9BC7-87441B91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12AB2-9E56-45C6-A56C-2C06CCEB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BD5B0-3CFB-4D6C-97F8-72A6F09D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35D7B-923E-421B-AB0A-C86E5CE0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F17A4-6802-4559-806D-D84C2517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3921B-505F-47D5-A88E-14D032AD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92E9-9F68-4A82-9D0B-59289BAE625B}" type="slidenum">
              <a:rPr b="0" lang="es-E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8F2F-E1D6-4DB6-996A-0F290FCC5A2B}" type="slidenum">
              <a:rPr b="0" lang="es-E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31CF-7A2D-43DA-B452-CE05EFF8C3DD}" type="slidenum">
              <a:rPr b="0" lang="es-E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685B-DD34-44B3-B58C-819952EC1BD7}" type="slidenum">
              <a:rPr b="0" lang="es-E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84B0-814A-4D0B-BAE6-492133628549}" type="slidenum">
              <a:rPr b="0" lang="es-E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A00C-AF67-4F05-A30B-2349CFB0A682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5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8E5B-FC8D-4917-9922-7AB839494E1E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09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418D-F881-419B-BF5E-A21583A3E454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53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1BE5-34A6-4E6A-855B-E216E9853387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212760" y="2511360"/>
            <a:ext cx="8480520" cy="1395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so"/>
          <p:cNvPicPr/>
          <p:nvPr/>
        </p:nvPicPr>
        <p:blipFill>
          <a:blip r:embed="rId2"/>
          <a:stretch/>
        </p:blipFill>
        <p:spPr>
          <a:xfrm>
            <a:off x="1332000" y="5157720"/>
            <a:ext cx="4392360" cy="809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s01"/>
          <p:cNvPicPr/>
          <p:nvPr/>
        </p:nvPicPr>
        <p:blipFill>
          <a:blip r:embed="rId3"/>
          <a:stretch/>
        </p:blipFill>
        <p:spPr>
          <a:xfrm>
            <a:off x="5796000" y="5157720"/>
            <a:ext cx="1297080" cy="809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so02"/>
          <p:cNvPicPr/>
          <p:nvPr/>
        </p:nvPicPr>
        <p:blipFill>
          <a:blip r:embed="rId4"/>
          <a:stretch/>
        </p:blipFill>
        <p:spPr>
          <a:xfrm>
            <a:off x="7164360" y="5013360"/>
            <a:ext cx="12002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Memoria Princip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Para que un programa se ejecute, debe de estar mapeado en direcciones absolutas y cargado a memori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l sistema operativo es el responsable d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Mantener registro de cuales partes de la memoria están actualmente siendo utilizadas y por qui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Decidir cuales procesos están cargados en memoria cuando el espacio de memoria está disponib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Ubicar y desalojar los espacios de memoria necesari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Archiv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s uno de los componentes más visibl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l sistema operativo provee de una vista lógica uniforme  del almacenamiento de la informació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l sistema operativo  abstrae de las propiedades físicas de los dispositivos de almacenamiento para definir una unidad de almacenamiento lógico el “archivo”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l sistema operativo mapea los archivos a los medios físicos y los accede via los dispositivos de almacenamient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Archiv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Un archivo es una colección de información relacionada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Los archivos se organizan  dentro de directorio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Debe de controlarse de quien es el archivo y quienes tienen derecho a utilizarl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457200" y="1905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Archiv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l sistema operativo es responsable d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Crear y eliminar archiv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Crear y eliminar directori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Soportar primitivas para manipular archivos y directori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Mapear los archivos a almacenamientos secundari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Respaldo de archivos en medios de almacenamiento esta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l sistema de E/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Uno de los propósitos de un sistema operativo es ocultar al usuario las peculiaridades específicas de los dispositivos de hardware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l subsistema de entrada y salida consiste d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Administración de memoria incluyendo buffering, cacheo y spool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Interfaz general para los drivers de dispositiv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Drivers para dispositivos específicos de hardwa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l sistema de  E/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Solamente el driver del dispositivo conoce las peculiaridades del dispositiv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almacenamiento secundar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Los programas deben de cargarse a memoria desde dispositivos de almacenamiento secundari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l sistema operativo es el responsable d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Administrar el espacio lib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Ubicación del almacenamient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Planificación del disc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Red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Un sistema distribuido es una colección de procesos que no comparten memoria, dispositivos periféricos o reloj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Cada procesador tiene su propia memoria y reloj  local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Los procesadores se comunican entre sí a través de varias líneas de comunicació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450" name="Picture 4" descr="so"/>
          <p:cNvPicPr/>
          <p:nvPr/>
        </p:nvPicPr>
        <p:blipFill>
          <a:blip r:embed="rId2"/>
          <a:stretch/>
        </p:blipFill>
        <p:spPr>
          <a:xfrm>
            <a:off x="1332000" y="5734080"/>
            <a:ext cx="4392360" cy="809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s01"/>
          <p:cNvPicPr/>
          <p:nvPr/>
        </p:nvPicPr>
        <p:blipFill>
          <a:blip r:embed="rId3"/>
          <a:stretch/>
        </p:blipFill>
        <p:spPr>
          <a:xfrm>
            <a:off x="5796000" y="5734080"/>
            <a:ext cx="1297080" cy="8096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so02"/>
          <p:cNvPicPr/>
          <p:nvPr/>
        </p:nvPicPr>
        <p:blipFill>
          <a:blip r:embed="rId4"/>
          <a:stretch/>
        </p:blipFill>
        <p:spPr>
          <a:xfrm>
            <a:off x="7164360" y="5589720"/>
            <a:ext cx="120024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Red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Los procesadores en el sistema están conectados a través de redes de comunicació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l sistema operativo usualmente generaliza el acceso a la red como un acceso a un archiv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Protección del Sistem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n sistemas donde se ejecutan varios procesos a la vez y varios usuarios se conectan, se deben de proveer mecanismos de protección de procesos y sus propias actividad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La protección se refiere al mecanismo para controlar el acceso de programas, procesos, o usuarios a los recursos del sistem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457" name="Picture 4" descr="so"/>
          <p:cNvPicPr/>
          <p:nvPr/>
        </p:nvPicPr>
        <p:blipFill>
          <a:blip r:embed="rId2"/>
          <a:stretch/>
        </p:blipFill>
        <p:spPr>
          <a:xfrm>
            <a:off x="1332000" y="5734080"/>
            <a:ext cx="4392360" cy="8096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s01"/>
          <p:cNvPicPr/>
          <p:nvPr/>
        </p:nvPicPr>
        <p:blipFill>
          <a:blip r:embed="rId3"/>
          <a:stretch/>
        </p:blipFill>
        <p:spPr>
          <a:xfrm>
            <a:off x="5796000" y="5734080"/>
            <a:ext cx="1297080" cy="8096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so02"/>
          <p:cNvPicPr/>
          <p:nvPr/>
        </p:nvPicPr>
        <p:blipFill>
          <a:blip r:embed="rId4"/>
          <a:stretch/>
        </p:blipFill>
        <p:spPr>
          <a:xfrm>
            <a:off x="7164360" y="5589720"/>
            <a:ext cx="120024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195120" y="2816280"/>
            <a:ext cx="84981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Protección del sistem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l mecanismo debe de proveer maneras de especificar los controles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Sistema de intérpretes de comand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s la interfaz entre  el usuario y el sistema operativ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Algunos sistemas operativos incluyen el intérprete en el núcle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Otros lo tratan como un programa que se ejecuta cuando una tarea es inicializada o cuando un usuario ingresa en caso de un sistema de tiempo compartid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464" name="Picture 4" descr="so"/>
          <p:cNvPicPr/>
          <p:nvPr/>
        </p:nvPicPr>
        <p:blipFill>
          <a:blip r:embed="rId2"/>
          <a:stretch/>
        </p:blipFill>
        <p:spPr>
          <a:xfrm>
            <a:off x="1332000" y="5734080"/>
            <a:ext cx="4392360" cy="8096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01"/>
          <p:cNvPicPr/>
          <p:nvPr/>
        </p:nvPicPr>
        <p:blipFill>
          <a:blip r:embed="rId3"/>
          <a:stretch/>
        </p:blipFill>
        <p:spPr>
          <a:xfrm>
            <a:off x="5796000" y="5734080"/>
            <a:ext cx="1297080" cy="8096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" descr="so02"/>
          <p:cNvPicPr/>
          <p:nvPr/>
        </p:nvPicPr>
        <p:blipFill>
          <a:blip r:embed="rId4"/>
          <a:stretch/>
        </p:blipFill>
        <p:spPr>
          <a:xfrm>
            <a:off x="7164360" y="5589720"/>
            <a:ext cx="120024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Sistema de intérprete de comand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Ejecución de program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Operaciones de Entrada y Salid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Manipulación del sistema de archiv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Comunicació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Detección de error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Ubicación de recurs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Contabilidad de recurs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Protecció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1" name="Picture 4" descr="so"/>
          <p:cNvPicPr/>
          <p:nvPr/>
        </p:nvPicPr>
        <p:blipFill>
          <a:blip r:embed="rId2"/>
          <a:stretch/>
        </p:blipFill>
        <p:spPr>
          <a:xfrm>
            <a:off x="1332000" y="5805360"/>
            <a:ext cx="4392360" cy="809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s01"/>
          <p:cNvPicPr/>
          <p:nvPr/>
        </p:nvPicPr>
        <p:blipFill>
          <a:blip r:embed="rId3"/>
          <a:stretch/>
        </p:blipFill>
        <p:spPr>
          <a:xfrm>
            <a:off x="5796000" y="5805360"/>
            <a:ext cx="1297080" cy="809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so02"/>
          <p:cNvPicPr/>
          <p:nvPr/>
        </p:nvPicPr>
        <p:blipFill>
          <a:blip r:embed="rId4"/>
          <a:stretch/>
        </p:blipFill>
        <p:spPr>
          <a:xfrm>
            <a:off x="7164360" y="5661000"/>
            <a:ext cx="12002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Rectangle 2" descr=""/>
          <p:cNvPicPr/>
          <p:nvPr/>
        </p:nvPicPr>
        <p:blipFill>
          <a:blip r:embed="rId1"/>
          <a:stretch/>
        </p:blipFill>
        <p:spPr>
          <a:xfrm>
            <a:off x="-103320" y="146160"/>
            <a:ext cx="8570880" cy="9144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7677000" cy="4991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-103320" y="146160"/>
            <a:ext cx="8570880" cy="9144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"/>
          <p:cNvPicPr/>
          <p:nvPr/>
        </p:nvPicPr>
        <p:blipFill>
          <a:blip r:embed="rId2"/>
          <a:stretch/>
        </p:blipFill>
        <p:spPr>
          <a:xfrm>
            <a:off x="2481120" y="1066680"/>
            <a:ext cx="4376880" cy="5639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Rectangle 2" descr=""/>
          <p:cNvPicPr/>
          <p:nvPr/>
        </p:nvPicPr>
        <p:blipFill>
          <a:blip r:embed="rId1"/>
          <a:stretch/>
        </p:blipFill>
        <p:spPr>
          <a:xfrm>
            <a:off x="-103320" y="146160"/>
            <a:ext cx="8570880" cy="9144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382240" cy="4753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-103320" y="146160"/>
            <a:ext cx="8570880" cy="9144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"/>
          <p:cNvPicPr/>
          <p:nvPr/>
        </p:nvPicPr>
        <p:blipFill>
          <a:blip r:embed="rId2"/>
          <a:stretch/>
        </p:blipFill>
        <p:spPr>
          <a:xfrm>
            <a:off x="609480" y="1096920"/>
            <a:ext cx="7772400" cy="558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AutoShape 2" descr=""/>
          <p:cNvPicPr/>
          <p:nvPr/>
        </p:nvPicPr>
        <p:blipFill>
          <a:blip r:embed="rId1"/>
          <a:stretch/>
        </p:blipFill>
        <p:spPr>
          <a:xfrm>
            <a:off x="3309840" y="530280"/>
            <a:ext cx="5602320" cy="287820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rebuchet MS"/>
              </a:rPr>
              <a:t>Histori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rebuchet MS"/>
              </a:rPr>
              <a:t>Estructura del MS-DOS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rebuchet MS"/>
              </a:rPr>
              <a:t>Directorios y Archivos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rebuchet MS"/>
              </a:rPr>
              <a:t>Comandos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rebuchet MS"/>
              </a:rPr>
              <a:t>Organización de la Memori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rebuchet MS"/>
              </a:rPr>
              <a:t>Configurar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rebuchet MS"/>
              </a:rPr>
              <a:t>Instalación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4" name="Picture 4" descr="msdos6"/>
          <p:cNvPicPr/>
          <p:nvPr/>
        </p:nvPicPr>
        <p:blipFill>
          <a:blip r:embed="rId2"/>
          <a:stretch/>
        </p:blipFill>
        <p:spPr>
          <a:xfrm>
            <a:off x="838080" y="3352680"/>
            <a:ext cx="20955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AutoShape 2" descr=""/>
          <p:cNvPicPr/>
          <p:nvPr/>
        </p:nvPicPr>
        <p:blipFill>
          <a:blip r:embed="rId1"/>
          <a:stretch/>
        </p:blipFill>
        <p:spPr>
          <a:xfrm>
            <a:off x="517680" y="755640"/>
            <a:ext cx="8175600" cy="11588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6172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n 1981Microsoft compra los derechos de un sistema operativo llamado QDOS. Lo llama MS-DOS 1.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IBM saca su versión llamada  PC-D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Microsoft produce varias versio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Administración de Proces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Administración de Memoria Princip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Administración de Archiv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Administración del sistema de Entrada y Salid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Administración de Almacenamiento Secundari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Red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Protección de Sistem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rebuchet MS"/>
              </a:rPr>
              <a:t>Sistema de interpretes de comand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10" name="Picture 4" descr="so"/>
          <p:cNvPicPr/>
          <p:nvPr/>
        </p:nvPicPr>
        <p:blipFill>
          <a:blip r:embed="rId2"/>
          <a:stretch/>
        </p:blipFill>
        <p:spPr>
          <a:xfrm>
            <a:off x="1332000" y="6048360"/>
            <a:ext cx="4392360" cy="809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s01"/>
          <p:cNvPicPr/>
          <p:nvPr/>
        </p:nvPicPr>
        <p:blipFill>
          <a:blip r:embed="rId3"/>
          <a:stretch/>
        </p:blipFill>
        <p:spPr>
          <a:xfrm>
            <a:off x="5796000" y="6048360"/>
            <a:ext cx="1297080" cy="8096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so02"/>
          <p:cNvPicPr/>
          <p:nvPr/>
        </p:nvPicPr>
        <p:blipFill>
          <a:blip r:embed="rId4"/>
          <a:stretch/>
        </p:blipFill>
        <p:spPr>
          <a:xfrm>
            <a:off x="7164360" y="5904000"/>
            <a:ext cx="120024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1982 aparece la versión 1.25, con la que se añade soporte para disquetes de doble car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1983,  versión 2.0, soporte a discos duros IBM de 10 MB, y la posibilidad de lectura-escritura de disquetes de 5.25" con capacidad de 360Kb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n 1984, versión 3.0 se añade soporte para discos de alta densidad de 1,2MB y posibilidad de instalar un disco duro con un máximo de 32MB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n ese mismo año, versión 3.1 soporte para redes Microsoft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1987,  versión 3.3 con soporte para floppy disk de 3,5", y discos duros mayores de 32 MB. 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1993, Versión 6.0  antivirus básico (MSAV), un desfragmentador (DEFRAG), un administrador de memoria (MEMMAKER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1997 Windows 95 OSR2, MS-DOS 7.00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c6c6c"/>
                </a:solidFill>
                <a:latin typeface="Trebuchet MS"/>
              </a:rPr>
              <a:t>La versión del MS-DOS 7.0 es la final. Permite particiones FAT32,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7"/>
          <p:cNvSpPr/>
          <p:nvPr/>
        </p:nvSpPr>
        <p:spPr>
          <a:xfrm>
            <a:off x="1600200" y="3505320"/>
            <a:ext cx="1600200" cy="9903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3657600" y="3505320"/>
            <a:ext cx="1523880" cy="91440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ces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791320" y="3505320"/>
            <a:ext cx="1523880" cy="83808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terp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1600200" y="4876920"/>
            <a:ext cx="5715000" cy="45720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1676520" y="5715000"/>
            <a:ext cx="5638680" cy="45720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ardware (Hard Disk, Floopy, Printer, Keyb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2517120" y="495288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ema Operativo MS-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21"/>
          <p:cNvSpPr/>
          <p:nvPr/>
        </p:nvSpPr>
        <p:spPr>
          <a:xfrm>
            <a:off x="4191120" y="5257800"/>
            <a:ext cx="485640" cy="533520"/>
          </a:xfrm>
          <a:prstGeom prst="upDownArrow">
            <a:avLst>
              <a:gd name="adj1" fmla="val 50000"/>
              <a:gd name="adj2" fmla="val 2187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2057400" y="4419720"/>
            <a:ext cx="485640" cy="533160"/>
          </a:xfrm>
          <a:prstGeom prst="upDownArrow">
            <a:avLst>
              <a:gd name="adj1" fmla="val 50000"/>
              <a:gd name="adj2" fmla="val 21855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3"/>
          <p:cNvSpPr/>
          <p:nvPr/>
        </p:nvSpPr>
        <p:spPr>
          <a:xfrm>
            <a:off x="4114800" y="4419720"/>
            <a:ext cx="485640" cy="533160"/>
          </a:xfrm>
          <a:prstGeom prst="upDownArrow">
            <a:avLst>
              <a:gd name="adj1" fmla="val 50000"/>
              <a:gd name="adj2" fmla="val 21855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4"/>
          <p:cNvSpPr/>
          <p:nvPr/>
        </p:nvSpPr>
        <p:spPr>
          <a:xfrm>
            <a:off x="6324480" y="4343400"/>
            <a:ext cx="486000" cy="533520"/>
          </a:xfrm>
          <a:prstGeom prst="upDownArrow">
            <a:avLst>
              <a:gd name="adj1" fmla="val 50000"/>
              <a:gd name="adj2" fmla="val 21854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AutoShape 2" descr=""/>
          <p:cNvPicPr/>
          <p:nvPr/>
        </p:nvPicPr>
        <p:blipFill>
          <a:blip r:embed="rId1"/>
          <a:stretch/>
        </p:blipFill>
        <p:spPr>
          <a:xfrm>
            <a:off x="517680" y="755640"/>
            <a:ext cx="8175600" cy="115884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l MS-DOS tiene una estructura de tipo de árbol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Dentro de las unidades de discos A,B,C tenemos directori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Dentro de los directorios tenemos archivos (file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504" name="Picture 7" descr=""/>
          <p:cNvPicPr/>
          <p:nvPr/>
        </p:nvPicPr>
        <p:blipFill>
          <a:blip r:embed="rId2"/>
          <a:stretch/>
        </p:blipFill>
        <p:spPr>
          <a:xfrm>
            <a:off x="4761000" y="2809800"/>
            <a:ext cx="37702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AutoShap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El MS-DOS tiene unos 100 comando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ara poder ejecutarlos necesitamos tres archivos (files) principal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IBMBIOS.COM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IBMDOS.COM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6c6c6c"/>
                </a:solidFill>
                <a:latin typeface="Trebuchet MS"/>
              </a:rPr>
              <a:t>COMMAND.COM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AutoShap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IBMBIOS.COM se encarga de las comunicaciones de entrada y salida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IBMDOS.COM es el centro de los servicios de la computadora, se conoce también como kerne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COMMAND.COM carga y permite ejecutar todos los comando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AutoShap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699320" cy="11509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</a:rPr>
              <a:t>La ROM-BIOS.- Programas de gestión de entrada y salida entre el Sistema Operativo y los dispositivos básicos de  la computadora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</a:rPr>
              <a:t>- La IO.SYS.- Son un conjunto de instrucciones para la transferencia de entrada/salida desde periféricos a memoria. Prepara el sistema en el arranque y contiene drivers de dispositivo residentes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</a:rPr>
              <a:t>- MSDOS.SYS.- Es el kernel de MS-DOS, en que figuran instrucciones para control de los disquetes. Es un programa que gestiona los archivos, directorios, memoria y entornos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</a:rPr>
              <a:t>- DBLSPACE.BIN.- Es el controlador del Kernel del compresor del disco duro que sirve para aumentar la capacidad de almacenamiento del disco, disponible a partir de la versión 6 del MS-DOS. Este controlador se ocupa de toda la compresión y descompresión de ficheros y se puede trasladar desde la memoria convencional a la memoria superior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</a:rPr>
              <a:t>- COMMAND.COM.- Es el intérprete de comandos, mediante los cuales el usuario se comunica con el ordenador, a través del prompt \&gt;. Interpreta los comandos tecleados y contiene los comandos internos de MS-DOS que no se visualizan en el directorio del sistema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ada disco tiene al menos un directorio: el  directorio raíz o” </a:t>
            </a: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root”</a:t>
            </a: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l directorio root puede contener un gran numero de otros directorios y archiv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Un directorio que esta dentro de otro directorio es llamado subdirectori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Subdirectorios pueden contener un gran numeros de archivo y directori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sta estructura tiene se parece a la estructura de un árbol y  se llama estructura jerárquica "hierarchical".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AutoShape 2" descr=""/>
          <p:cNvPicPr/>
          <p:nvPr/>
        </p:nvPicPr>
        <p:blipFill>
          <a:blip r:embed="rId1"/>
          <a:stretch/>
        </p:blipFill>
        <p:spPr>
          <a:xfrm>
            <a:off x="560520" y="755640"/>
            <a:ext cx="81327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15" name="Organization Chart 2"/>
          <p:cNvGrpSpPr/>
          <p:nvPr/>
        </p:nvGrpSpPr>
        <p:grpSpPr>
          <a:xfrm>
            <a:off x="1730520" y="3286800"/>
            <a:ext cx="6060960" cy="3104280"/>
            <a:chOff x="1730520" y="3286800"/>
            <a:chExt cx="6060960" cy="3104280"/>
          </a:xfrm>
        </p:grpSpPr>
        <p:cxnSp>
          <p:nvCxnSpPr>
            <p:cNvPr id="516" name="_s1028"/>
            <p:cNvCxnSpPr>
              <a:stCxn id="517" idx="1"/>
              <a:endCxn id="518" idx="2"/>
            </p:cNvCxnSpPr>
            <p:nvPr/>
          </p:nvCxnSpPr>
          <p:spPr>
            <a:xfrm rot="10800000">
              <a:off x="2760120" y="5316480"/>
              <a:ext cx="229320" cy="89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9" name="_s1029"/>
            <p:cNvCxnSpPr>
              <a:stCxn id="520" idx="1"/>
              <a:endCxn id="518" idx="2"/>
            </p:cNvCxnSpPr>
            <p:nvPr/>
          </p:nvCxnSpPr>
          <p:spPr>
            <a:xfrm rot="10800000">
              <a:off x="2760120" y="5316480"/>
              <a:ext cx="229320" cy="357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1" name="_s1030"/>
            <p:cNvCxnSpPr>
              <a:stCxn id="522" idx="0"/>
              <a:endCxn id="523" idx="2"/>
            </p:cNvCxnSpPr>
            <p:nvPr/>
          </p:nvCxnSpPr>
          <p:spPr>
            <a:xfrm flipV="1" rot="16200000">
              <a:off x="4387680" y="4095000"/>
              <a:ext cx="179640" cy="1145520"/>
            </a:xfrm>
            <a:prstGeom prst="bentConnector3">
              <a:avLst>
                <a:gd name="adj1" fmla="val 49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4" name="_s1031"/>
            <p:cNvCxnSpPr>
              <a:stCxn id="518" idx="0"/>
              <a:endCxn id="523" idx="2"/>
            </p:cNvCxnSpPr>
            <p:nvPr/>
          </p:nvCxnSpPr>
          <p:spPr>
            <a:xfrm flipH="1" flipV="1" rot="5400000">
              <a:off x="3243240" y="4095360"/>
              <a:ext cx="179640" cy="1145160"/>
            </a:xfrm>
            <a:prstGeom prst="bentConnector3">
              <a:avLst>
                <a:gd name="adj1" fmla="val 49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5" name="_s1032"/>
            <p:cNvCxnSpPr>
              <a:stCxn id="526" idx="0"/>
              <a:endCxn id="527" idx="2"/>
            </p:cNvCxnSpPr>
            <p:nvPr/>
          </p:nvCxnSpPr>
          <p:spPr>
            <a:xfrm flipV="1" rot="16200000">
              <a:off x="5843160" y="2758320"/>
              <a:ext cx="179640" cy="2345040"/>
            </a:xfrm>
            <a:prstGeom prst="bentConnector3">
              <a:avLst>
                <a:gd name="adj1" fmla="val 49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8" name="_s1033"/>
            <p:cNvCxnSpPr>
              <a:stCxn id="529" idx="0"/>
              <a:endCxn id="527" idx="2"/>
            </p:cNvCxnSpPr>
            <p:nvPr/>
          </p:nvCxnSpPr>
          <p:spPr>
            <a:xfrm flipV="1" rot="16200000">
              <a:off x="5043240" y="3558240"/>
              <a:ext cx="179640" cy="745200"/>
            </a:xfrm>
            <a:prstGeom prst="bentConnector3">
              <a:avLst>
                <a:gd name="adj1" fmla="val 49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0" name="_s1034"/>
            <p:cNvCxnSpPr>
              <a:stCxn id="523" idx="0"/>
              <a:endCxn id="527" idx="2"/>
            </p:cNvCxnSpPr>
            <p:nvPr/>
          </p:nvCxnSpPr>
          <p:spPr>
            <a:xfrm flipH="1" flipV="1" rot="5400000">
              <a:off x="4243320" y="3502800"/>
              <a:ext cx="179640" cy="856440"/>
            </a:xfrm>
            <a:prstGeom prst="bentConnector3">
              <a:avLst>
                <a:gd name="adj1" fmla="val 49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7" name="_s1035"/>
            <p:cNvSpPr/>
            <p:nvPr/>
          </p:nvSpPr>
          <p:spPr>
            <a:xfrm>
              <a:off x="4075200" y="3286800"/>
              <a:ext cx="1371600" cy="55512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C:\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_s1036"/>
            <p:cNvSpPr/>
            <p:nvPr/>
          </p:nvSpPr>
          <p:spPr>
            <a:xfrm>
              <a:off x="3219480" y="4021200"/>
              <a:ext cx="1371600" cy="55764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T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C:\tareas\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_s1037"/>
            <p:cNvSpPr/>
            <p:nvPr/>
          </p:nvSpPr>
          <p:spPr>
            <a:xfrm>
              <a:off x="4819680" y="4021200"/>
              <a:ext cx="1371600" cy="55764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Fo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C:\fotos\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_s1038"/>
            <p:cNvSpPr/>
            <p:nvPr/>
          </p:nvSpPr>
          <p:spPr>
            <a:xfrm>
              <a:off x="6419880" y="4021200"/>
              <a:ext cx="1371600" cy="55764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Apu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C:\apu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_s1039"/>
            <p:cNvSpPr/>
            <p:nvPr/>
          </p:nvSpPr>
          <p:spPr>
            <a:xfrm>
              <a:off x="1730520" y="4758120"/>
              <a:ext cx="2060640" cy="55728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Ing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C:\tareas\ingles\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_s1040"/>
            <p:cNvSpPr/>
            <p:nvPr/>
          </p:nvSpPr>
          <p:spPr>
            <a:xfrm>
              <a:off x="4019760" y="4758120"/>
              <a:ext cx="2060280" cy="55728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Españ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C:\tareas\españo\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_s1041"/>
            <p:cNvSpPr/>
            <p:nvPr/>
          </p:nvSpPr>
          <p:spPr>
            <a:xfrm>
              <a:off x="2989440" y="5495040"/>
              <a:ext cx="1371600" cy="35820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Tarea1.t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_s1042"/>
            <p:cNvSpPr/>
            <p:nvPr/>
          </p:nvSpPr>
          <p:spPr>
            <a:xfrm>
              <a:off x="2989440" y="6032880"/>
              <a:ext cx="1371600" cy="35820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240" rIns="7524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Tarea2.t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Proces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Un proceso  puede verse como un programa que se encuentra en ejecució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Una tarea en lotes es un proces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Un programa de usuario de tiempo compartido es un proceso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415" name="Picture 4" descr="so"/>
          <p:cNvPicPr/>
          <p:nvPr/>
        </p:nvPicPr>
        <p:blipFill>
          <a:blip r:embed="rId2"/>
          <a:stretch/>
        </p:blipFill>
        <p:spPr>
          <a:xfrm>
            <a:off x="1332000" y="5157720"/>
            <a:ext cx="4392360" cy="8096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s01"/>
          <p:cNvPicPr/>
          <p:nvPr/>
        </p:nvPicPr>
        <p:blipFill>
          <a:blip r:embed="rId3"/>
          <a:stretch/>
        </p:blipFill>
        <p:spPr>
          <a:xfrm>
            <a:off x="5796000" y="5157720"/>
            <a:ext cx="1297080" cy="809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so02"/>
          <p:cNvPicPr/>
          <p:nvPr/>
        </p:nvPicPr>
        <p:blipFill>
          <a:blip r:embed="rId4"/>
          <a:stretch/>
        </p:blipFill>
        <p:spPr>
          <a:xfrm>
            <a:off x="7164360" y="5013360"/>
            <a:ext cx="12002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AutoShap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589880" cy="11509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n DOS , la root se simboliza por backslash inmediatamente después de la letra del drive:</a:t>
            </a:r>
            <a:br>
              <a:rPr sz="2000"/>
            </a:b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A:\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 or </a:t>
            </a: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C:\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  serian los directorios root del drive A o drive 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os nombres de los directorios cuando son usados en comandos tienen que ser diferenciados por el backslas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c6c6c"/>
                </a:solidFill>
                <a:latin typeface="Trebuchet MS"/>
              </a:rPr>
              <a:t>C:\tareas\español\tarea1.htm</a:t>
            </a:r>
            <a:br>
              <a:rPr sz="1800"/>
            </a:br>
            <a:r>
              <a:rPr b="1" lang="es-MX" sz="18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l nombre completo incluyendo la letra del drive y todos los directorios para localizar un archivo es llamado el “path”. </a:t>
            </a:r>
            <a:br>
              <a:rPr sz="2000"/>
            </a:b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c:\tareas\español\unidad1\vocales.dot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AutoShap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589880" cy="115092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Nombres de directorios especiales: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 Es el símbolo de directorio actua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rebuchet MS"/>
              </a:rPr>
              <a:t>..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 Es el símbolo del directorio padre.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rebuchet MS"/>
              </a:rPr>
              <a:t>C:\tareas\español\tarea1.htm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rebuchet MS"/>
              </a:rPr>
              <a:t>el padre de español es tareas porque español esta dentro de tarea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rebuchet MS"/>
              </a:rPr>
              <a:t>\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 es el símbolo del directorio raíz ” root"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DOS archivos están limitados por varias regla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El nombre de un archivo consite de dos partes separadas por un punto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Nombre  Extensió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tarea.tx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El nombre no puede tener mas de 8 caracter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AutoShap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Extensión. Las extensiones son opcionales pero se recomienda usarla porque son muy útil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ueden tener de 1 a 3 caracter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Las extensiones puede proveer información del tipo de archivo: de texto .txt de word .do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El nombre del archivo y la extension seimpre tiene que ser separada por un punt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AutoShap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DOS no diferencia entre letras mayusculas y letras minuscula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c6c6c"/>
                </a:solidFill>
                <a:latin typeface="Trebuchet MS"/>
              </a:rPr>
              <a:t>TAREA1.TXT es lo mismo que tAreA1.tXt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Se pueden combinar letras y números en cualquier orde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Alguno caracteres especiales son valid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~ ` ' ! @ # $ % ^ &amp; ( ) _ - {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Otro caracteres no son validos para nombr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c6c6c"/>
                </a:solidFill>
                <a:latin typeface="Trebuchet MS"/>
              </a:rPr>
              <a:t>* + = | \ [ ] : ; " &lt; , &gt; ? /</a:t>
            </a:r>
            <a:r>
              <a:rPr b="0" lang="es-MX" sz="18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Proces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Un proceso necesita de ciertos recursos para ejecutar su tare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Tiempo de CPU, memoria, archivos, dispositivos E/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Para inicializar un proceso, éste puede requerir de datos de entrad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420" name="Picture 4" descr="so"/>
          <p:cNvPicPr/>
          <p:nvPr/>
        </p:nvPicPr>
        <p:blipFill>
          <a:blip r:embed="rId2"/>
          <a:stretch/>
        </p:blipFill>
        <p:spPr>
          <a:xfrm>
            <a:off x="1332000" y="5157720"/>
            <a:ext cx="4392360" cy="809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s01"/>
          <p:cNvPicPr/>
          <p:nvPr/>
        </p:nvPicPr>
        <p:blipFill>
          <a:blip r:embed="rId3"/>
          <a:stretch/>
        </p:blipFill>
        <p:spPr>
          <a:xfrm>
            <a:off x="5796000" y="5157720"/>
            <a:ext cx="1297080" cy="809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so02"/>
          <p:cNvPicPr/>
          <p:nvPr/>
        </p:nvPicPr>
        <p:blipFill>
          <a:blip r:embed="rId4"/>
          <a:stretch/>
        </p:blipFill>
        <p:spPr>
          <a:xfrm>
            <a:off x="7164360" y="5013360"/>
            <a:ext cx="12002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Proces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Un programa por sí mismo no es un proceso, un programa es una entidad pasiv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Un proceso es una entidad activa, con un program counter especificando la próxima instrucción a ejecutar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La ejecución de un proceso debe de progresar secuencialment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s común tener un proceso que se divide en diferentes secuencias de ejecució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Proces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Un proceso es la unidad de trabajo del sistem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l sistema operativo es responsable de ejecutar las siguientes instrucciones con respecto a la administración de proceso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Creación y borrado de procesos de usuario y sistem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Suspensión o terminación de proces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27" name="Picture 4" descr="so"/>
          <p:cNvPicPr/>
          <p:nvPr/>
        </p:nvPicPr>
        <p:blipFill>
          <a:blip r:embed="rId2"/>
          <a:stretch/>
        </p:blipFill>
        <p:spPr>
          <a:xfrm>
            <a:off x="1332000" y="5805360"/>
            <a:ext cx="4392360" cy="80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s01"/>
          <p:cNvPicPr/>
          <p:nvPr/>
        </p:nvPicPr>
        <p:blipFill>
          <a:blip r:embed="rId3"/>
          <a:stretch/>
        </p:blipFill>
        <p:spPr>
          <a:xfrm>
            <a:off x="5796000" y="5805360"/>
            <a:ext cx="1297080" cy="809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so02"/>
          <p:cNvPicPr/>
          <p:nvPr/>
        </p:nvPicPr>
        <p:blipFill>
          <a:blip r:embed="rId4"/>
          <a:stretch/>
        </p:blipFill>
        <p:spPr>
          <a:xfrm>
            <a:off x="7164360" y="5661000"/>
            <a:ext cx="12002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proces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Proveer mecanismos para sincronización de proces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Proveer de mecanismos de comunicación de proces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rebuchet MS"/>
              </a:rPr>
              <a:t>Proveer de mecanismos para el manejo de bloque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Trebuchet MS"/>
              </a:rPr>
              <a:t>Administración de Memoria Princip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La memoria principal es un arreglo grande de palabras o byt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Cada palabra o byte tiene su propia direcció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La memoria principal es un repositorio de datos rápidamente accesibles, y compartidos por el CPU y los dispositivos de E/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6c6c6c"/>
                </a:solidFill>
                <a:latin typeface="Trebuchet MS"/>
              </a:rPr>
              <a:t>Es el almacenamiento que puede acceder el CPU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6:00:29Z</dcterms:created>
  <dc:creator>ROSSMON S.A.</dc:creator>
  <dc:description/>
  <dc:language>en-US</dc:language>
  <cp:lastModifiedBy>Rossy</cp:lastModifiedBy>
  <dcterms:modified xsi:type="dcterms:W3CDTF">2011-05-31T16:47:22Z</dcterms:modified>
  <cp:revision>5</cp:revision>
  <dc:subject/>
  <dc:title>Algunos Sistemas Operativos</dc:title>
</cp:coreProperties>
</file>